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suction.wav" ContentType="audio/x-wav"/>
  <Override PartName="/ppt/media/image4.wmf" ContentType="image/x-wmf"/>
  <Override PartName="/ppt/media/click.wav" ContentType="audio/x-wav"/>
  <Override PartName="/ppt/media/image5.jpeg" ContentType="image/jpeg"/>
  <Override PartName="/ppt/media/laser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977-DE39-4FBF-B050-B9D1CEF9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1B0-84C5-493F-B2AB-0B4C7E8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995-5973-4EA1-A93F-9B98CAAB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553-AF7D-4E57-85E7-01F5923F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AE2-2634-4A35-ACE7-B107CB4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DEC-30B0-4F4C-9449-01C77BC3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497-6979-467B-838A-FEFC3A0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6FB-6C58-4863-B465-2EC34AC0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108-09CD-4FC5-BFE7-A0CB8524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756-0777-4645-9FE2-B6CCDEA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935-D9C2-4FD8-9E9C-0E4F558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752-46FF-4042-AB13-79E1F48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FCB-1F3A-461B-95A4-3DE3057A5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292640"/>
            <a:ext cx="721980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нила: Рочева Мария, 231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1125360"/>
            <a:ext cx="76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асен ли комариный укус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0">
    <p:zoom dir="out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давно подметило, что одних людей комары кусают чаще, а других реже. Как это объясн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гательным образом действует запах тела. Особенно привлекают пот, температура тела, выделение углекислого газа, а у людей — также цвет и поверхность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выше у вас температура тела, тем больше вероятность стать комарины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ктр феромонов, выделяемых человеком,широк и среди них выделяются компоненты, притягивающие и отпугивающие 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щие вырабатываются в организме всех людей, а вот те, что комаров отпугивают, — только у не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дной из версий, отпугивающие компоненты пахнут для комаров сильнее, чем привлекающие. По другой — люди, которых комары не кусают, просто лишены запахов, привлекающих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56000" y="1268280"/>
            <a:ext cx="2530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  <p:sndAc>
      <p:stSnd>
        <p:snd r:embed="rId1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лияет на активность кома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зависит от метеорологических факторов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воздушного течения (при скорости ветра 2 —3 м/сек летать комары уже не могу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сивность освещения (при солнце комары не летают, искусственные источники света: они не просто привлекают комаров, а удерживают их своим светом в активном состоянии, в ясные ночи, когда приближается полнолуние, комары нападают все время пер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: любят средние показатели температуры +15-25,время перед грозой когда в воздухе так знойно и ду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 комаров делят на вечерний максимум, ночной минимум, утренний пик, дневным миним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vert"/>
    <p:sndAc>
      <p:stSnd>
        <p:snd r:embed="rId1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тличить малярийн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ра от немалярий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ярий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сидящего на стене комара брюшко косо приподнято, голова с хоботком, грудь и брюшко — находится на одной прямой линии, образующей с основанием острый угол. Обе стороны угла соединены второй парой ног, и получается в общем намек на букву А. Осторожно, анофе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инки держатся на поверхности воды в горизонтальном положени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маляри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идящих комаров брюшко приложено к основанию, т. е. все тело параллельно осн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личинок из воды выступает конец дыхательной трубочки, а их тело образует с поверхностью воды всегда остры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zoom dir="in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лучше защититься от кома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е количество химических препаратов, отпугивающих насекомых -  репелленты. Королем репеллентов уже более 50 лет является диэтилтолуамид (ДЭТА, или D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ксикологи считают, что для малышей до 3 - 5 и даже 8 лет использование репеллентных средств недопуст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рекомендуется наносить репеллент на лицо: вместе с потом препарат может попасть в глаза и 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ледует наносить репелленты на участки тела, закрытые одеждой - это увеличит количество препарата, поглощаемого ко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ей лучше всего защищать противомоскитными сетками или наносить средство на одежду или препаратами с минимальных содержанием действующего вещества (6 -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показаны репелленты также беременным женщинам и людям с заболеваниями ко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мещении лучшая защита от комаров — мелкие сетки на окнах, вентилятор, установленный у крова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угивающим средством является электрофумиг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стро действует инсектецидный (уничтожающий) аэрозоль, однако увлекаться не стоит :аэрозоли – самые токсичные из средств. На время обработки помещений изолируйте ваших домашних питомцев, накройте аквариумы с рыбами, а сами обработав помещение, покиньте его на некоторо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omb dir="horz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х ли одинаково кусают комар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чем комару пить кровь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6814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ь пьют самки комаров.()БЕЛКИ?() Самцы же питаются цветочным нектаром и соками раст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УГЛЕВОДЫ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280" y="3860280"/>
            <a:ext cx="331956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37360" y="1409760"/>
            <a:ext cx="1714320" cy="1181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олько что родившиеся самки комара в яичниках начинают развиваться яички. В связи с этим у самок пробуждается и инстинкт, заставляющий их искать хозяина и напиться крови, необходимой для дозревания яичек.(брачный пери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88944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8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чем комару пить кров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вшись крови, отяжелевшие самки улетают в укрытия, где усваивают пищу и ждут, когда созреют яички. А потом уже остается подыскать удобное место для откладки 200 — 300 яичек, и цикл закон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529080" cy="3745080"/>
          </a:xfrm>
          <a:prstGeom prst="rect">
            <a:avLst/>
          </a:prstGeom>
          <a:ln w="0">
            <a:noFill/>
          </a:ln>
        </p:spPr>
      </p:pic>
    </p:spTree>
  </p:cSld>
  <p:transition spd="med" advTm="0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комара дает возможность пить кр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товой орган комара имеет очень сложное строение. В нем можно различить все основные элементы ротового аппарата насекомых, но все они видоизменены и приспособлены для выполнения главной функции — сосания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укусе нижняя губа отдергивается, и в кожу проникают до этого скрытые парные мандибулы и максиллы, измененные в виде колющих щетинок челюсти, прокалывающие и пропиливающие путь для собственно сосущего элемента хоботка — непарной колющей щетинки (гипофаринкс) с каналом слюнных желез, и верхняя губа с желобком, по которому всасывается кровь. Свободно по бокам хоботка расположены щупа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самцов они такой же длины, как и хоботок, или даже чуть больше, причем в большинстве случаев последний их членик имеет колбовидную форму и густо покрыт волос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комариный укус вызывает зуд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юна комаров содержит белки, которые не дают крови свертываться и запускающие аллергически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97000" y="1268280"/>
            <a:ext cx="2265480" cy="4032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lus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м опасен комариный укус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ные аллергические реакции вплоть до анафилактического шока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анные укусы нагна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ют не прихлопывать комаров на себе, а стряхивать или сбивать щелчкам, организме комаров содержатся опасные для человека грибки, они могут попасть в организм человека через кожу, когда мы прихлопываем и размазываем ко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екций многих заразных болезней, вызываемых простейшими, бактериями, вирусами и даже черв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03800" y="1557360"/>
            <a:ext cx="2897280" cy="3600360"/>
          </a:xfrm>
          <a:prstGeom prst="rect">
            <a:avLst/>
          </a:prstGeom>
          <a:ln w="0">
            <a:noFill/>
          </a:ln>
        </p:spPr>
      </p:pic>
    </p:spTree>
  </p:cSld>
  <p:transition spd="med" advTm="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гут ли комары передавать возбудителей болез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новая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я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хорадка Д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дно-нильская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цефа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81296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p:transition spd="med" advTm="0">
    <p:wheel spokes="2"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31:49Z</dcterms:created>
  <dc:creator>07110</dc:creator>
  <dc:description/>
  <dc:language>en-US</dc:language>
  <cp:lastModifiedBy>07110</cp:lastModifiedBy>
  <dcterms:modified xsi:type="dcterms:W3CDTF">2009-12-17T13:43:55Z</dcterms:modified>
  <cp:revision>8</cp:revision>
  <dc:subject/>
  <dc:title>Слайд 1</dc:title>
</cp:coreProperties>
</file>